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B1F-EF6A-44A3-9038-99742F9C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54F-9962-44C1-A1AA-08A4722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84E-299C-47F4-8545-8EE75335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521-69AD-4DFB-91DE-B8CF4270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1C66-1DCB-42D6-B015-2689A7E5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127-A55A-49FB-B704-B7471C1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230-9A2F-473C-80ED-E553F529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479B-6D63-4A09-959F-19C1085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9897-5408-4B48-944A-8E6616DB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0A6E-F38B-4580-9F96-20EE44FE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1D64-655C-498D-BEBA-57759F6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ACC-C53C-4A69-A05C-12BD4D44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4402-31C6-4BDC-B96A-5880AA06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74AB-A0BA-4BC8-8D55-22842C1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53F-46E0-421F-956D-AE86AFE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CB97-3E91-464F-9D57-CF84DA24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1933-8F37-4CA9-89E9-01C87B75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9967-5D60-44E0-A8AC-817C50DE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940F-03D8-45C5-A2AC-05E44891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1028-1A8E-4EDA-997B-1DE9044E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7353-6D1C-4F2D-86C6-510DCE37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6CC7-4992-4469-ADBC-5276D3B3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99D-169B-450C-8631-19965EA1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DF45-654D-49BC-BF79-BB31067E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1CDB-3175-40F9-8124-D068195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350D-543B-4C64-87F3-DA7FE6E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B923-221C-45E6-A0A3-6C0DE13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5BE5-0F63-4106-BCC2-F228A0D4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7954-184E-4FAB-AA7F-56F1BA04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E52F-B65F-447A-A842-B6C01A3B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E658-593A-486A-80E1-1636AAC3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8CDE-E365-4738-8781-2DA2437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C9CE-9B9D-4CF7-B80B-9A3AB11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F3F-6D3E-43A4-8C63-5D9D0A1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D27D-A4B5-4F7F-A842-3976E89E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2EB3-283D-4AF0-9FDB-A56A0A3D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54F3-7043-4FC2-9437-5CCD431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E158-AC2C-4BCF-9169-4658334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21EB-09D6-4FB9-B2B8-96C4D0E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E8C0-7580-45E7-A129-13925F77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308C-F5B7-4FE7-AD26-8637C440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1C5B-1D5E-4EBF-A514-B63D1E5D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4DAB-BD90-4D9F-B199-7372227A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B88-FB48-45FE-97C6-BF9E62E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FFD-6110-4DE3-B26E-396D9D92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CCB-FDFD-4FF2-BACC-C0A5A0F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0A7-2694-42BC-AB60-9E1A52F6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6EB-AF98-4978-8CF9-4F31ED8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7283-DBAC-422F-B1F4-1634805666CC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D7C0-01C8-4650-A9A0-94D3126D4DF6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6E5A-3B3E-46B3-84B3-72A908052878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7A2A-F117-4B7D-8717-2A9EA5A5421C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C:\Users\Ania\AppData\Local\Microsoft\Windows\Temporary Internet Files\Content.IE5\AKSHKWQ7\MP900439294[1].jpg"/>
          <p:cNvPicPr/>
          <p:nvPr/>
        </p:nvPicPr>
        <p:blipFill>
          <a:blip r:embed="rId1"/>
          <a:srcRect l="21698" t="11208" r="16121" b="224"/>
          <a:stretch/>
        </p:blipFill>
        <p:spPr>
          <a:xfrm>
            <a:off x="6364440" y="1989000"/>
            <a:ext cx="1807920" cy="38451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61680" y="1074600"/>
            <a:ext cx="572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nstantia"/>
              </a:rPr>
              <a:t>Cechy podzielności liczb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ae51"/>
                </a:solidFill>
                <a:latin typeface="Franklin Gothic Book"/>
              </a:rPr>
              <a:t>prze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7" name="Group 448"/>
          <p:cNvGrpSpPr/>
          <p:nvPr/>
        </p:nvGrpSpPr>
        <p:grpSpPr>
          <a:xfrm>
            <a:off x="3314880" y="4267080"/>
            <a:ext cx="1134360" cy="844560"/>
            <a:chOff x="3314880" y="4267080"/>
            <a:chExt cx="1134360" cy="844560"/>
          </a:xfrm>
        </p:grpSpPr>
        <p:grpSp>
          <p:nvGrpSpPr>
            <p:cNvPr id="228" name="Grupa 13"/>
            <p:cNvGrpSpPr/>
            <p:nvPr/>
          </p:nvGrpSpPr>
          <p:grpSpPr>
            <a:xfrm>
              <a:off x="3314880" y="4312080"/>
              <a:ext cx="520920" cy="698760"/>
              <a:chOff x="3314880" y="4312080"/>
              <a:chExt cx="520920" cy="698760"/>
            </a:xfrm>
          </p:grpSpPr>
          <p:pic>
            <p:nvPicPr>
              <p:cNvPr id="229" name="Obraz 15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3314880" y="431208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Elipsa 16"/>
              <p:cNvSpPr/>
              <p:nvPr/>
            </p:nvSpPr>
            <p:spPr>
              <a:xfrm>
                <a:off x="3525120" y="436392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31" name="Elipsa 17"/>
              <p:cNvSpPr/>
              <p:nvPr/>
            </p:nvSpPr>
            <p:spPr>
              <a:xfrm>
                <a:off x="3609720" y="441756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32" name="Obraz 14" descr=""/>
            <p:cNvPicPr/>
            <p:nvPr/>
          </p:nvPicPr>
          <p:blipFill>
            <a:blip r:embed="rId3"/>
            <a:stretch/>
          </p:blipFill>
          <p:spPr>
            <a:xfrm>
              <a:off x="3650400" y="4267080"/>
              <a:ext cx="798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432"/>
          <p:cNvGrpSpPr/>
          <p:nvPr/>
        </p:nvGrpSpPr>
        <p:grpSpPr>
          <a:xfrm>
            <a:off x="4859280" y="4578480"/>
            <a:ext cx="1359000" cy="747720"/>
            <a:chOff x="4859280" y="4578480"/>
            <a:chExt cx="1359000" cy="747720"/>
          </a:xfrm>
        </p:grpSpPr>
        <p:pic>
          <p:nvPicPr>
            <p:cNvPr id="234" name="Obraz 6" descr=""/>
            <p:cNvPicPr/>
            <p:nvPr/>
          </p:nvPicPr>
          <p:blipFill>
            <a:blip r:embed="rId4"/>
            <a:stretch/>
          </p:blipFill>
          <p:spPr>
            <a:xfrm>
              <a:off x="5151600" y="4584960"/>
              <a:ext cx="702000" cy="74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434"/>
            <p:cNvGrpSpPr/>
            <p:nvPr/>
          </p:nvGrpSpPr>
          <p:grpSpPr>
            <a:xfrm>
              <a:off x="4859280" y="4578480"/>
              <a:ext cx="1359000" cy="741240"/>
              <a:chOff x="4859280" y="4578480"/>
              <a:chExt cx="1359000" cy="741240"/>
            </a:xfrm>
          </p:grpSpPr>
          <p:grpSp>
            <p:nvGrpSpPr>
              <p:cNvPr id="236" name="Grupa 8"/>
              <p:cNvGrpSpPr/>
              <p:nvPr/>
            </p:nvGrpSpPr>
            <p:grpSpPr>
              <a:xfrm>
                <a:off x="4859280" y="4618080"/>
                <a:ext cx="457920" cy="613080"/>
                <a:chOff x="4859280" y="4618080"/>
                <a:chExt cx="457920" cy="613080"/>
              </a:xfrm>
            </p:grpSpPr>
            <p:pic>
              <p:nvPicPr>
                <p:cNvPr id="237" name="Obraz 10" descr=""/>
                <p:cNvPicPr/>
                <p:nvPr/>
              </p:nvPicPr>
              <p:blipFill>
                <a:blip r:embed="rId5"/>
                <a:srcRect l="13896" t="0" r="16785" b="0"/>
                <a:stretch/>
              </p:blipFill>
              <p:spPr>
                <a:xfrm>
                  <a:off x="4859280" y="4618080"/>
                  <a:ext cx="457920" cy="61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Elipsa 11"/>
                <p:cNvSpPr/>
                <p:nvPr/>
              </p:nvSpPr>
              <p:spPr>
                <a:xfrm>
                  <a:off x="5044320" y="466344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  <p:sp>
              <p:nvSpPr>
                <p:cNvPr id="239" name="Elipsa 12"/>
                <p:cNvSpPr/>
                <p:nvPr/>
              </p:nvSpPr>
              <p:spPr>
                <a:xfrm>
                  <a:off x="5118480" y="471060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</p:grpSp>
          <p:pic>
            <p:nvPicPr>
              <p:cNvPr id="240" name="Obraz 9" descr=""/>
              <p:cNvPicPr/>
              <p:nvPr/>
            </p:nvPicPr>
            <p:blipFill>
              <a:blip r:embed="rId6"/>
              <a:stretch/>
            </p:blipFill>
            <p:spPr>
              <a:xfrm>
                <a:off x="5516280" y="4578480"/>
                <a:ext cx="702000" cy="74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Ania\AppData\Local\Microsoft\Windows\Temporary Internet Files\Content.IE5\FZ4DAB55\MP900439090[1].jpg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75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24204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nstantia"/>
              </a:rPr>
              <a:t>Wybierz liczby podzielne przez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45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46" name="Grupa 6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47" name="Obraz 8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Elipsa 10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49" name="Elipsa 11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50" name="Obraz 7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pole tekstowe 3"/>
          <p:cNvSpPr/>
          <p:nvPr/>
        </p:nvSpPr>
        <p:spPr>
          <a:xfrm rot="781800">
            <a:off x="757800" y="2124360"/>
            <a:ext cx="6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ole tekstowe 15"/>
          <p:cNvSpPr/>
          <p:nvPr/>
        </p:nvSpPr>
        <p:spPr>
          <a:xfrm rot="781800">
            <a:off x="1324800" y="2439360"/>
            <a:ext cx="7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0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ole tekstowe 16"/>
          <p:cNvSpPr/>
          <p:nvPr/>
        </p:nvSpPr>
        <p:spPr>
          <a:xfrm rot="781800">
            <a:off x="613080" y="28537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3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ole tekstowe 17"/>
          <p:cNvSpPr/>
          <p:nvPr/>
        </p:nvSpPr>
        <p:spPr>
          <a:xfrm rot="781800">
            <a:off x="2211840" y="25455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ole tekstowe 18"/>
          <p:cNvSpPr/>
          <p:nvPr/>
        </p:nvSpPr>
        <p:spPr>
          <a:xfrm rot="781800">
            <a:off x="5332320" y="52448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8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ole tekstowe 19"/>
          <p:cNvSpPr/>
          <p:nvPr/>
        </p:nvSpPr>
        <p:spPr>
          <a:xfrm rot="781800">
            <a:off x="1324800" y="3550320"/>
            <a:ext cx="7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3366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ole tekstowe 20"/>
          <p:cNvSpPr/>
          <p:nvPr/>
        </p:nvSpPr>
        <p:spPr>
          <a:xfrm rot="781800">
            <a:off x="2441880" y="40456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8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ole tekstowe 21"/>
          <p:cNvSpPr/>
          <p:nvPr/>
        </p:nvSpPr>
        <p:spPr>
          <a:xfrm rot="781800">
            <a:off x="647640" y="3758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10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ole tekstowe 22"/>
          <p:cNvSpPr/>
          <p:nvPr/>
        </p:nvSpPr>
        <p:spPr>
          <a:xfrm rot="781800">
            <a:off x="1709640" y="31258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722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ole tekstowe 23"/>
          <p:cNvSpPr/>
          <p:nvPr/>
        </p:nvSpPr>
        <p:spPr>
          <a:xfrm rot="781800">
            <a:off x="3421800" y="279468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ole tekstowe 24"/>
          <p:cNvSpPr/>
          <p:nvPr/>
        </p:nvSpPr>
        <p:spPr>
          <a:xfrm rot="781800">
            <a:off x="4356360" y="28407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ole tekstowe 26"/>
          <p:cNvSpPr/>
          <p:nvPr/>
        </p:nvSpPr>
        <p:spPr>
          <a:xfrm rot="781800">
            <a:off x="3556800" y="336780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55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ole tekstowe 27"/>
          <p:cNvSpPr/>
          <p:nvPr/>
        </p:nvSpPr>
        <p:spPr>
          <a:xfrm rot="781800">
            <a:off x="5366160" y="33314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34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ole tekstowe 28"/>
          <p:cNvSpPr/>
          <p:nvPr/>
        </p:nvSpPr>
        <p:spPr>
          <a:xfrm rot="781800">
            <a:off x="4645440" y="37774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6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ole tekstowe 29"/>
          <p:cNvSpPr/>
          <p:nvPr/>
        </p:nvSpPr>
        <p:spPr>
          <a:xfrm rot="781800">
            <a:off x="3048840" y="3732840"/>
            <a:ext cx="6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ole tekstowe 30"/>
          <p:cNvSpPr/>
          <p:nvPr/>
        </p:nvSpPr>
        <p:spPr>
          <a:xfrm rot="781800">
            <a:off x="3951360" y="4317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ole tekstowe 31"/>
          <p:cNvSpPr/>
          <p:nvPr/>
        </p:nvSpPr>
        <p:spPr>
          <a:xfrm rot="781800">
            <a:off x="5090760" y="4594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ole tekstowe 32"/>
          <p:cNvSpPr/>
          <p:nvPr/>
        </p:nvSpPr>
        <p:spPr>
          <a:xfrm rot="781800">
            <a:off x="5416920" y="41695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ole tekstowe 33"/>
          <p:cNvSpPr/>
          <p:nvPr/>
        </p:nvSpPr>
        <p:spPr>
          <a:xfrm rot="781800">
            <a:off x="5977080" y="3868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9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Objaśnienie prostokątne zaokrąglone 4"/>
          <p:cNvSpPr/>
          <p:nvPr/>
        </p:nvSpPr>
        <p:spPr>
          <a:xfrm>
            <a:off x="6300720" y="170496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Sprawdź, które liczby dzielą się przez </a:t>
            </a: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10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1b98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3" name="pole tekstowe 7" descr=""/>
          <p:cNvPicPr/>
          <p:nvPr/>
        </p:nvPicPr>
        <p:blipFill>
          <a:blip r:embed="rId1"/>
          <a:stretch/>
        </p:blipFill>
        <p:spPr>
          <a:xfrm>
            <a:off x="2749680" y="2041560"/>
            <a:ext cx="5260680" cy="1652400"/>
          </a:xfrm>
          <a:prstGeom prst="rect">
            <a:avLst/>
          </a:prstGeom>
          <a:ln w="0">
            <a:noFill/>
          </a:ln>
        </p:spPr>
      </p:pic>
      <p:pic>
        <p:nvPicPr>
          <p:cNvPr id="274" name="Obraz 3" descr=""/>
          <p:cNvPicPr/>
          <p:nvPr/>
        </p:nvPicPr>
        <p:blipFill>
          <a:blip r:embed="rId2"/>
          <a:stretch/>
        </p:blipFill>
        <p:spPr>
          <a:xfrm>
            <a:off x="1469880" y="3141720"/>
            <a:ext cx="3859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10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6937200" cy="4456080"/>
          </a:xfrm>
          <a:prstGeom prst="rect">
            <a:avLst/>
          </a:prstGeom>
          <a:ln w="0">
            <a:noFill/>
          </a:ln>
        </p:spPr>
      </p:pic>
      <p:sp>
        <p:nvSpPr>
          <p:cNvPr id="277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78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79" name="Grupa 8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80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Elipsa 12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82" name="Elipsa 13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83" name="Obraz 10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ytuł 1" descr=""/>
          <p:cNvPicPr/>
          <p:nvPr/>
        </p:nvPicPr>
        <p:blipFill>
          <a:blip r:embed="rId1"/>
          <a:stretch/>
        </p:blipFill>
        <p:spPr>
          <a:xfrm>
            <a:off x="1073160" y="554040"/>
            <a:ext cx="7016760" cy="1201680"/>
          </a:xfrm>
          <a:prstGeom prst="rect">
            <a:avLst/>
          </a:prstGeom>
          <a:ln w="0">
            <a:noFill/>
          </a:ln>
        </p:spPr>
      </p:pic>
      <p:sp>
        <p:nvSpPr>
          <p:cNvPr id="28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6" name="Objaśnienie prostokątne 5" descr=""/>
          <p:cNvPicPr/>
          <p:nvPr/>
        </p:nvPicPr>
        <p:blipFill>
          <a:blip r:embed="rId2"/>
          <a:stretch/>
        </p:blipFill>
        <p:spPr>
          <a:xfrm>
            <a:off x="-6480" y="1865160"/>
            <a:ext cx="2646360" cy="18115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upa 19"/>
          <p:cNvGrpSpPr/>
          <p:nvPr/>
        </p:nvGrpSpPr>
        <p:grpSpPr>
          <a:xfrm>
            <a:off x="1949400" y="4021200"/>
            <a:ext cx="2811600" cy="1592280"/>
            <a:chOff x="1949400" y="4021200"/>
            <a:chExt cx="2811600" cy="1592280"/>
          </a:xfrm>
        </p:grpSpPr>
        <p:pic>
          <p:nvPicPr>
            <p:cNvPr id="288" name="Obraz 6" descr=""/>
            <p:cNvPicPr/>
            <p:nvPr/>
          </p:nvPicPr>
          <p:blipFill>
            <a:blip r:embed="rId3"/>
            <a:srcRect l="16287" t="0" r="17021" b="0"/>
            <a:stretch/>
          </p:blipFill>
          <p:spPr>
            <a:xfrm>
              <a:off x="1949400" y="4021200"/>
              <a:ext cx="947520" cy="14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Obraz 8" descr=""/>
            <p:cNvPicPr/>
            <p:nvPr/>
          </p:nvPicPr>
          <p:blipFill>
            <a:blip r:embed="rId4"/>
            <a:stretch/>
          </p:blipFill>
          <p:spPr>
            <a:xfrm>
              <a:off x="2423160" y="4041000"/>
              <a:ext cx="1490400" cy="15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Obraz 12" descr=""/>
            <p:cNvPicPr/>
            <p:nvPr/>
          </p:nvPicPr>
          <p:blipFill>
            <a:blip r:embed="rId5"/>
            <a:stretch/>
          </p:blipFill>
          <p:spPr>
            <a:xfrm>
              <a:off x="3270600" y="4026960"/>
              <a:ext cx="1490400" cy="157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ole tekstowe 18" descr=""/>
          <p:cNvPicPr/>
          <p:nvPr/>
        </p:nvPicPr>
        <p:blipFill>
          <a:blip r:embed="rId6"/>
          <a:stretch/>
        </p:blipFill>
        <p:spPr>
          <a:xfrm>
            <a:off x="2724120" y="2584440"/>
            <a:ext cx="5408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63560"/>
            <a:ext cx="6881760" cy="4359240"/>
          </a:xfrm>
          <a:prstGeom prst="rect">
            <a:avLst/>
          </a:prstGeom>
          <a:ln w="0">
            <a:noFill/>
          </a:ln>
        </p:spPr>
      </p:pic>
      <p:sp>
        <p:nvSpPr>
          <p:cNvPr id="29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Users\Ania\AppData\Local\Microsoft\Windows\Temporary Internet Files\Content.IE5\AKSHKWQ7\MC900343405[1].wmf"/>
          <p:cNvPicPr/>
          <p:nvPr/>
        </p:nvPicPr>
        <p:blipFill>
          <a:blip r:embed="rId2"/>
          <a:stretch/>
        </p:blipFill>
        <p:spPr>
          <a:xfrm>
            <a:off x="5913360" y="4149720"/>
            <a:ext cx="22654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upa 1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297" name="Grupa 15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298" name="Obraz 18" descr=""/>
              <p:cNvPicPr/>
              <p:nvPr/>
            </p:nvPicPr>
            <p:blipFill>
              <a:blip r:embed="rId3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Elipsa 19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00" name="Elipsa 20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01" name="Obraz 16" descr=""/>
            <p:cNvPicPr/>
            <p:nvPr/>
          </p:nvPicPr>
          <p:blipFill>
            <a:blip r:embed="rId4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raz 17" descr=""/>
            <p:cNvPicPr/>
            <p:nvPr/>
          </p:nvPicPr>
          <p:blipFill>
            <a:blip r:embed="rId5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Symbol zastępczy zawartości 2" descr=""/>
          <p:cNvPicPr/>
          <p:nvPr/>
        </p:nvPicPr>
        <p:blipFill>
          <a:blip r:embed="rId1"/>
          <a:stretch/>
        </p:blipFill>
        <p:spPr>
          <a:xfrm>
            <a:off x="1206360" y="1663560"/>
            <a:ext cx="6894720" cy="4359240"/>
          </a:xfrm>
          <a:prstGeom prst="rect">
            <a:avLst/>
          </a:prstGeom>
          <a:ln w="0">
            <a:noFill/>
          </a:ln>
        </p:spPr>
      </p:pic>
      <p:sp>
        <p:nvSpPr>
          <p:cNvPr id="30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rostokąt zaokrąglony 3"/>
          <p:cNvSpPr/>
          <p:nvPr/>
        </p:nvSpPr>
        <p:spPr>
          <a:xfrm>
            <a:off x="6199200" y="227664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Cennik biletów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na karuzelę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Osoba dorosł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7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Dziecko powyżej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5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Dziecko poniżej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3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07" name="Grupa 15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08" name="Grupa 16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09" name="Obraz 19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20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11" name="Elipsa 21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12" name="Obraz 17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8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5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1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Symbol zastępczy zawartości 2" descr=""/>
          <p:cNvPicPr/>
          <p:nvPr/>
        </p:nvPicPr>
        <p:blipFill>
          <a:blip r:embed="rId1"/>
          <a:stretch/>
        </p:blipFill>
        <p:spPr>
          <a:xfrm>
            <a:off x="1238400" y="1646280"/>
            <a:ext cx="6862680" cy="4376520"/>
          </a:xfrm>
          <a:prstGeom prst="rect">
            <a:avLst/>
          </a:prstGeom>
          <a:ln w="0">
            <a:noFill/>
          </a:ln>
        </p:spPr>
      </p:pic>
      <p:sp>
        <p:nvSpPr>
          <p:cNvPr id="316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17" name="Grupa 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18" name="Grupa 8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19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Elipsa 12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21" name="Elipsa 13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22" name="Obraz 10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raz 14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9:50Z</dcterms:modified>
  <cp:revision>69</cp:revision>
  <dc:subject/>
  <dc:title>Mnożenie i dzielenie w zadaniach</dc:title>
</cp:coreProperties>
</file>